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7894"/>
        <c:axId val="51062093"/>
      </c:barChart>
      <c:catAx>
        <c:axId val="8517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62093"/>
        <c:crosses val="autoZero"/>
        <c:auto val="1"/>
        <c:lblAlgn val="ctr"/>
        <c:lblOffset val="100"/>
        <c:noMultiLvlLbl val="0"/>
      </c:catAx>
      <c:valAx>
        <c:axId val="51062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7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47A-DD95-48C4-ACCC-D743AA32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2A4-AD81-42C5-8173-394BB92F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711-61D4-4B41-8ACB-732D7F51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A12-DD7A-4369-8FD1-E50712AD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939-C554-4422-9366-1B57FDD5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3A7-94BD-4A6D-BD55-4A6AC111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787-6905-407D-8D8D-F9A6823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CD2-C54E-4305-A5FC-BE859EF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1D8-61A3-4656-A47F-777EFB6F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61E-2C6D-43E1-BD9D-989AD21B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AE6-B4CA-4084-9C2F-FCAAFA0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F0E-8B13-4955-83F4-574EC505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75C28-7F32-480E-A76D-64FAFE77BD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